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525-409E-4116-877A-F19292CD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62D-0120-4650-88A8-81AF9B8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8AC-59FE-438D-8F43-837AB2C6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AD6-EB2F-45B1-997B-4ED8FAE3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8EF-7C7B-4580-8E6C-E73EDC9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E2A-2C7A-4D55-A8D1-153341B9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63A-2D2A-4CEC-B1E2-7800155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10D-7B53-48DC-87B6-D948C815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425-FD62-4C6A-BCEF-4DE1261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F22-562F-43CE-A486-644E42D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D76-6539-47B5-84F0-6FC62FC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8D0-561E-4B55-AD20-D0860EF5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482-308E-4AA5-89C0-ED01CF502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Robotz%20Asterisk.wav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hyperlink" Target="file:///tmp/home/.config/libreoffice/4/user/gallery/DOORBZ01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33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empus Sans ITC"/>
              </a:rPr>
              <a:t>Fact or Opin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jp"/>
          <p:cNvPicPr/>
          <p:nvPr/>
        </p:nvPicPr>
        <p:blipFill>
          <a:blip r:embed="rId2"/>
          <a:stretch/>
        </p:blipFill>
        <p:spPr>
          <a:xfrm>
            <a:off x="1295280" y="1143000"/>
            <a:ext cx="3353040" cy="10555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3" name="AutoShape 8">
            <a:hlinkClick r:id="" action="ppaction://hlinkshowjump?jump=nextslide"/>
          </p:cNvPr>
          <p:cNvSpPr/>
          <p:nvPr/>
        </p:nvSpPr>
        <p:spPr>
          <a:xfrm>
            <a:off x="2514600" y="30481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3794"/>
                </a:moveTo>
                <a:lnTo>
                  <a:pt x="18376" y="10800"/>
                </a:lnTo>
                <a:lnTo>
                  <a:pt x="436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057400" y="4800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Teacher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AutoShape 11">
            <a:hlinkClick r:id="rId3" action="ppaction://hlinksldjump"/>
          </p:cNvPr>
          <p:cNvSpPr/>
          <p:nvPr/>
        </p:nvSpPr>
        <p:spPr>
          <a:xfrm>
            <a:off x="5029200" y="30481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3794"/>
                </a:moveTo>
                <a:lnTo>
                  <a:pt x="18376" y="10800"/>
                </a:lnTo>
                <a:lnTo>
                  <a:pt x="436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572000" y="4800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Activity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53080" y="304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1066680" y="6019920"/>
            <a:ext cx="716292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reated by Carrie Ziolkowski, GALACT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11" name="Picture 4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12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AutoShape 12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18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19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25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26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32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33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39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40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295280" y="1752480"/>
            <a:ext cx="5562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'm Sorry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90920" y="4114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s answer is incorrect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AutoShape 8">
            <a:hlinkClick r:id="rId4"/>
          </p:cNvPr>
          <p:cNvSpPr/>
          <p:nvPr/>
        </p:nvSpPr>
        <p:spPr>
          <a:xfrm>
            <a:off x="2819520" y="5257800"/>
            <a:ext cx="3962160" cy="1143000"/>
          </a:xfrm>
          <a:custGeom>
            <a:avLst/>
            <a:gdLst>
              <a:gd name="textAreaLeft" fmla="*/ 73800 w 3962160"/>
              <a:gd name="textAreaRight" fmla="*/ 3888360 w 3962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4859" h="21600">
                <a:moveTo>
                  <a:pt x="0" y="0"/>
                </a:moveTo>
                <a:lnTo>
                  <a:pt x="74859" y="0"/>
                </a:lnTo>
                <a:lnTo>
                  <a:pt x="74859" y="21600"/>
                </a:lnTo>
                <a:lnTo>
                  <a:pt x="0" y="21600"/>
                </a:lnTo>
                <a:close/>
              </a:path>
              <a:path fill="lightenLess" w="74859" h="21600">
                <a:moveTo>
                  <a:pt x="0" y="0"/>
                </a:moveTo>
                <a:lnTo>
                  <a:pt x="74859" y="0"/>
                </a:lnTo>
                <a:lnTo>
                  <a:pt x="73459" y="1400"/>
                </a:lnTo>
                <a:lnTo>
                  <a:pt x="1400" y="1400"/>
                </a:lnTo>
                <a:close/>
              </a:path>
              <a:path fill="darken" w="74859" h="21600">
                <a:moveTo>
                  <a:pt x="74859" y="0"/>
                </a:moveTo>
                <a:lnTo>
                  <a:pt x="74859" y="21600"/>
                </a:lnTo>
                <a:lnTo>
                  <a:pt x="73459" y="20200"/>
                </a:lnTo>
                <a:lnTo>
                  <a:pt x="73459" y="1400"/>
                </a:lnTo>
                <a:close/>
              </a:path>
              <a:path fill="darkenLess" w="74859" h="21600">
                <a:moveTo>
                  <a:pt x="74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59" y="20200"/>
                </a:lnTo>
                <a:close/>
              </a:path>
              <a:path fill="lighten" w="74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Try again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46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47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54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55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80880" y="0"/>
            <a:ext cx="2819160" cy="1325520"/>
            <a:chOff x="380880" y="0"/>
            <a:chExt cx="2819160" cy="1325520"/>
          </a:xfrm>
        </p:grpSpPr>
        <p:pic>
          <p:nvPicPr>
            <p:cNvPr id="162" name="Picture 3" descr="jp"/>
            <p:cNvPicPr/>
            <p:nvPr/>
          </p:nvPicPr>
          <p:blipFill>
            <a:blip r:embed="rId2"/>
            <a:stretch/>
          </p:blipFill>
          <p:spPr>
            <a:xfrm>
              <a:off x="68544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63" name="Text Box 4"/>
            <p:cNvSpPr/>
            <p:nvPr/>
          </p:nvSpPr>
          <p:spPr>
            <a:xfrm>
              <a:off x="38088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762120" y="312408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556272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explain </a:t>
            </a: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this statement is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28600" y="1600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70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71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685800" y="320040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85800" y="541008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turn this fact into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AutoShape 8">
            <a:hlinkClick r:id="rId4"/>
          </p:cNvPr>
          <p:cNvSpPr/>
          <p:nvPr/>
        </p:nvSpPr>
        <p:spPr>
          <a:xfrm>
            <a:off x="6324480" y="2438280"/>
            <a:ext cx="2210040" cy="1828800"/>
          </a:xfrm>
          <a:custGeom>
            <a:avLst/>
            <a:gdLst>
              <a:gd name="textAreaLeft" fmla="*/ 118440 w 2210040"/>
              <a:gd name="textAreaRight" fmla="*/ 2091600 w 221004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6102" h="21600">
                <a:moveTo>
                  <a:pt x="0" y="0"/>
                </a:moveTo>
                <a:lnTo>
                  <a:pt x="26102" y="0"/>
                </a:lnTo>
                <a:lnTo>
                  <a:pt x="26102" y="21600"/>
                </a:lnTo>
                <a:lnTo>
                  <a:pt x="0" y="21600"/>
                </a:lnTo>
                <a:close/>
              </a:path>
              <a:path fill="lightenLess" w="26102" h="21600">
                <a:moveTo>
                  <a:pt x="0" y="0"/>
                </a:moveTo>
                <a:lnTo>
                  <a:pt x="26102" y="0"/>
                </a:lnTo>
                <a:lnTo>
                  <a:pt x="24702" y="1400"/>
                </a:lnTo>
                <a:lnTo>
                  <a:pt x="1400" y="1400"/>
                </a:lnTo>
                <a:close/>
              </a:path>
              <a:path fill="darken" w="26102" h="21600">
                <a:moveTo>
                  <a:pt x="26102" y="0"/>
                </a:moveTo>
                <a:lnTo>
                  <a:pt x="26102" y="21600"/>
                </a:lnTo>
                <a:lnTo>
                  <a:pt x="24702" y="20200"/>
                </a:lnTo>
                <a:lnTo>
                  <a:pt x="24702" y="1400"/>
                </a:lnTo>
                <a:close/>
              </a:path>
              <a:path fill="darkenLess" w="26102" h="21600">
                <a:moveTo>
                  <a:pt x="2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2" y="20200"/>
                </a:lnTo>
                <a:close/>
              </a:path>
              <a:path fill="lighten" w="2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04920" y="1600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78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79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685800" y="3200400"/>
            <a:ext cx="4267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85800" y="5410080"/>
            <a:ext cx="594360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an you turn this fact into an opinion?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AutoShape 8">
            <a:hlinkClick r:id="rId4"/>
          </p:cNvPr>
          <p:cNvSpPr/>
          <p:nvPr/>
        </p:nvSpPr>
        <p:spPr>
          <a:xfrm>
            <a:off x="6477120" y="2286000"/>
            <a:ext cx="1904760" cy="205740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057400"/>
              <a:gd name="textAreaBottom" fmla="*/ 1934280 h 2057400"/>
            </a:gdLst>
            <a:ahLst/>
            <a:rect l="textAreaLeft" t="textAreaTop" r="textAreaRight" b="textAreaBottom"/>
            <a:pathLst>
              <a:path w="21600" h="23331">
                <a:moveTo>
                  <a:pt x="0" y="0"/>
                </a:moveTo>
                <a:lnTo>
                  <a:pt x="21600" y="0"/>
                </a:lnTo>
                <a:lnTo>
                  <a:pt x="21600" y="23331"/>
                </a:lnTo>
                <a:lnTo>
                  <a:pt x="0" y="23331"/>
                </a:lnTo>
                <a:close/>
              </a:path>
              <a:path fill="lightenLess" w="21600" h="233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31">
                <a:moveTo>
                  <a:pt x="21600" y="0"/>
                </a:moveTo>
                <a:lnTo>
                  <a:pt x="21600" y="23331"/>
                </a:lnTo>
                <a:lnTo>
                  <a:pt x="20200" y="21931"/>
                </a:lnTo>
                <a:lnTo>
                  <a:pt x="20200" y="1400"/>
                </a:lnTo>
                <a:close/>
              </a:path>
              <a:path fill="darkenLess" w="21600" h="23331">
                <a:moveTo>
                  <a:pt x="21600" y="23331"/>
                </a:moveTo>
                <a:lnTo>
                  <a:pt x="0" y="23331"/>
                </a:lnTo>
                <a:lnTo>
                  <a:pt x="1400" y="21931"/>
                </a:lnTo>
                <a:lnTo>
                  <a:pt x="20200" y="21931"/>
                </a:lnTo>
                <a:close/>
              </a:path>
              <a:path fill="lighten" w="21600" h="23331">
                <a:moveTo>
                  <a:pt x="0" y="233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31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tep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Furth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1600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you stated your answer in the form of a question, you 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6">
            <a:hlinkClick r:id="" action="ppaction://hlinkshowjump?jump=nextslide"/>
          </p:cNvPr>
          <p:cNvSpPr/>
          <p:nvPr/>
        </p:nvSpPr>
        <p:spPr>
          <a:xfrm>
            <a:off x="6781680" y="3962520"/>
            <a:ext cx="1524240" cy="144756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44" h="21600">
                <a:moveTo>
                  <a:pt x="0" y="0"/>
                </a:moveTo>
                <a:lnTo>
                  <a:pt x="22744" y="0"/>
                </a:lnTo>
                <a:lnTo>
                  <a:pt x="22744" y="21600"/>
                </a:lnTo>
                <a:lnTo>
                  <a:pt x="0" y="21600"/>
                </a:lnTo>
                <a:close/>
              </a:path>
              <a:path fill="lightenLess" w="22744" h="21600">
                <a:moveTo>
                  <a:pt x="0" y="0"/>
                </a:moveTo>
                <a:lnTo>
                  <a:pt x="22744" y="0"/>
                </a:lnTo>
                <a:lnTo>
                  <a:pt x="21344" y="1400"/>
                </a:lnTo>
                <a:lnTo>
                  <a:pt x="1400" y="1400"/>
                </a:lnTo>
                <a:close/>
              </a:path>
              <a:path fill="darken" w="22744" h="21600">
                <a:moveTo>
                  <a:pt x="22744" y="0"/>
                </a:moveTo>
                <a:lnTo>
                  <a:pt x="22744" y="21600"/>
                </a:lnTo>
                <a:lnTo>
                  <a:pt x="21344" y="20200"/>
                </a:lnTo>
                <a:lnTo>
                  <a:pt x="21344" y="1400"/>
                </a:lnTo>
                <a:close/>
              </a:path>
              <a:path fill="darkenLess" w="22744" h="21600">
                <a:moveTo>
                  <a:pt x="22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4" y="20200"/>
                </a:lnTo>
                <a:close/>
              </a:path>
              <a:path fill="lighten" w="22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4" h="21600">
                <a:moveTo>
                  <a:pt x="4365" y="3794"/>
                </a:moveTo>
                <a:lnTo>
                  <a:pt x="18378" y="10800"/>
                </a:lnTo>
                <a:lnTo>
                  <a:pt x="4365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3244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Black"/>
              </a:rPr>
              <a:t>To Activity P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52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53" name="Text Box 9"/>
            <p:cNvSpPr/>
            <p:nvPr/>
          </p:nvSpPr>
          <p:spPr>
            <a:xfrm>
              <a:off x="838080" y="3049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34320" y="457200"/>
            <a:ext cx="1868400" cy="186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685800" y="1981080"/>
            <a:ext cx="5257800" cy="42321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This activity addresses the following Missouri Standard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Distinguish between fact and opinion (MO 1.6, 1.7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Recognize different viewpoints, biases and propaganda (MO 1.6, 1.7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228600" y="0"/>
            <a:ext cx="2819160" cy="1325520"/>
            <a:chOff x="228600" y="0"/>
            <a:chExt cx="2819160" cy="1325520"/>
          </a:xfrm>
        </p:grpSpPr>
        <p:pic>
          <p:nvPicPr>
            <p:cNvPr id="186" name="Picture 3" descr="jp"/>
            <p:cNvPicPr/>
            <p:nvPr/>
          </p:nvPicPr>
          <p:blipFill>
            <a:blip r:embed="rId2"/>
            <a:stretch/>
          </p:blipFill>
          <p:spPr>
            <a:xfrm>
              <a:off x="533160" y="53316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87" name="Text Box 4"/>
            <p:cNvSpPr/>
            <p:nvPr/>
          </p:nvSpPr>
          <p:spPr>
            <a:xfrm>
              <a:off x="228600" y="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2971800" y="2133720"/>
            <a:ext cx="5486400" cy="34156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Lucida Sans"/>
              </a:rPr>
              <a:t>Going further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 Black"/>
              </a:rPr>
              <a:t>In your journal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rite two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facts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rite two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opinions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about these fac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0880" y="1752480"/>
            <a:ext cx="1747800" cy="1727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2"/>
          <p:cNvSpPr/>
          <p:nvPr/>
        </p:nvSpPr>
        <p:spPr>
          <a:xfrm>
            <a:off x="609480" y="4495680"/>
            <a:ext cx="1524240" cy="1371600"/>
          </a:xfrm>
          <a:custGeom>
            <a:avLst/>
            <a:gdLst>
              <a:gd name="textAreaLeft" fmla="*/ 88560 w 1524240"/>
              <a:gd name="textAreaRight" fmla="*/ 1435680 w 15242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57" name="Picture 6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58" name="Text Box 7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1868760" cy="1868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457200" y="2057400"/>
            <a:ext cx="8001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ul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.  Read each sentence or passage.  Decide whether it describes a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fac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or an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opinio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11">
            <a:hlinkClick r:id="" action="ppaction://hlinkshowjump?jump=nextslide"/>
          </p:cNvPr>
          <p:cNvSpPr/>
          <p:nvPr/>
        </p:nvSpPr>
        <p:spPr>
          <a:xfrm>
            <a:off x="5257800" y="5715000"/>
            <a:ext cx="3429000" cy="914400"/>
          </a:xfrm>
          <a:custGeom>
            <a:avLst/>
            <a:gdLst>
              <a:gd name="textAreaLeft" fmla="*/ 59040 w 3429000"/>
              <a:gd name="textAreaRight" fmla="*/ 3369960 w 3429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0977" h="21600">
                <a:moveTo>
                  <a:pt x="0" y="0"/>
                </a:moveTo>
                <a:lnTo>
                  <a:pt x="80977" y="0"/>
                </a:lnTo>
                <a:lnTo>
                  <a:pt x="80977" y="21600"/>
                </a:lnTo>
                <a:lnTo>
                  <a:pt x="0" y="21600"/>
                </a:lnTo>
                <a:close/>
              </a:path>
              <a:path fill="lightenLess" w="80977" h="21600">
                <a:moveTo>
                  <a:pt x="0" y="0"/>
                </a:moveTo>
                <a:lnTo>
                  <a:pt x="80977" y="0"/>
                </a:lnTo>
                <a:lnTo>
                  <a:pt x="79577" y="1400"/>
                </a:lnTo>
                <a:lnTo>
                  <a:pt x="1400" y="1400"/>
                </a:lnTo>
                <a:close/>
              </a:path>
              <a:path fill="darken" w="80977" h="21600">
                <a:moveTo>
                  <a:pt x="80977" y="0"/>
                </a:moveTo>
                <a:lnTo>
                  <a:pt x="80977" y="21600"/>
                </a:lnTo>
                <a:lnTo>
                  <a:pt x="79577" y="20200"/>
                </a:lnTo>
                <a:lnTo>
                  <a:pt x="79577" y="1400"/>
                </a:lnTo>
                <a:close/>
              </a:path>
              <a:path fill="darkenLess" w="80977" h="21600">
                <a:moveTo>
                  <a:pt x="80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77" y="20200"/>
                </a:lnTo>
                <a:close/>
              </a:path>
              <a:path fill="lighten" w="80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inue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63" name="Picture 3" descr="jp"/>
            <p:cNvPicPr/>
            <p:nvPr/>
          </p:nvPicPr>
          <p:blipFill>
            <a:blip r:embed="rId2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64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1868760" cy="1868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57200" y="1828800"/>
            <a:ext cx="8001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ul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 Raise your hand to share your answer.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AutoShape 7">
            <a:hlinkClick r:id="" action="ppaction://hlinkshowjump?jump=nextslide"/>
          </p:cNvPr>
          <p:cNvSpPr/>
          <p:nvPr/>
        </p:nvSpPr>
        <p:spPr>
          <a:xfrm>
            <a:off x="6400800" y="3581280"/>
            <a:ext cx="2438280" cy="1447920"/>
          </a:xfrm>
          <a:custGeom>
            <a:avLst/>
            <a:gdLst>
              <a:gd name="textAreaLeft" fmla="*/ 93600 w 2438280"/>
              <a:gd name="textAreaRight" fmla="*/ 2344680 w 243828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6370" h="21600">
                <a:moveTo>
                  <a:pt x="0" y="0"/>
                </a:moveTo>
                <a:lnTo>
                  <a:pt x="36370" y="0"/>
                </a:lnTo>
                <a:lnTo>
                  <a:pt x="36370" y="21600"/>
                </a:lnTo>
                <a:lnTo>
                  <a:pt x="0" y="21600"/>
                </a:lnTo>
                <a:close/>
              </a:path>
              <a:path fill="lightenLess" w="36370" h="21600">
                <a:moveTo>
                  <a:pt x="0" y="0"/>
                </a:moveTo>
                <a:lnTo>
                  <a:pt x="36370" y="0"/>
                </a:lnTo>
                <a:lnTo>
                  <a:pt x="34971" y="1400"/>
                </a:lnTo>
                <a:lnTo>
                  <a:pt x="1400" y="1400"/>
                </a:lnTo>
                <a:close/>
              </a:path>
              <a:path fill="darken" w="36370" h="21600">
                <a:moveTo>
                  <a:pt x="36370" y="0"/>
                </a:moveTo>
                <a:lnTo>
                  <a:pt x="36370" y="21600"/>
                </a:lnTo>
                <a:lnTo>
                  <a:pt x="34971" y="20200"/>
                </a:lnTo>
                <a:lnTo>
                  <a:pt x="34971" y="1400"/>
                </a:lnTo>
                <a:close/>
              </a:path>
              <a:path fill="darkenLess" w="36370" h="21600">
                <a:moveTo>
                  <a:pt x="36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71" y="20200"/>
                </a:lnTo>
                <a:close/>
              </a:path>
              <a:path fill="lighten" w="36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inue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4800600"/>
            <a:ext cx="5943600" cy="1312920"/>
          </a:xfrm>
          <a:prstGeom prst="rect">
            <a:avLst/>
          </a:prstGeom>
          <a:solidFill>
            <a:srgbClr val="ff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Don’t forget to phrase your answer as 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4876920" y="5486400"/>
            <a:ext cx="760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7724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2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72" name="Picture 3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73" name="Text Box 4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523880" y="25909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ark McGwire is the greatest baseball player who ever live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12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80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81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47920" y="2286000"/>
            <a:ext cx="586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eing an astronaut is the best job in the world.  You get to travel in outer space and learn all about astronomy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88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89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447920" y="2286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A computer’s main job is to process a great deal of information on a regular basi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96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97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47920" y="22860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United States is the most effective democracy in the worl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AutoShape 9">
            <a:hlinkClick r:id="rId6" action="ppaction://hlinksldjump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838080" y="304920"/>
            <a:ext cx="2819160" cy="1325520"/>
            <a:chOff x="838080" y="304920"/>
            <a:chExt cx="2819160" cy="1325520"/>
          </a:xfrm>
        </p:grpSpPr>
        <p:pic>
          <p:nvPicPr>
            <p:cNvPr id="104" name="Picture 4" descr="jp"/>
            <p:cNvPicPr/>
            <p:nvPr/>
          </p:nvPicPr>
          <p:blipFill>
            <a:blip r:embed="rId3"/>
            <a:stretch/>
          </p:blipFill>
          <p:spPr>
            <a:xfrm>
              <a:off x="1142640" y="838080"/>
              <a:ext cx="2514600" cy="792360"/>
            </a:xfrm>
            <a:prstGeom prst="rect">
              <a:avLst/>
            </a:prstGeom>
            <a:ln w="76320">
              <a:solidFill>
                <a:srgbClr val="ff0066"/>
              </a:solidFill>
              <a:miter/>
            </a:ln>
          </p:spPr>
        </p:pic>
        <p:sp>
          <p:nvSpPr>
            <p:cNvPr id="105" name="Text Box 5"/>
            <p:cNvSpPr/>
            <p:nvPr/>
          </p:nvSpPr>
          <p:spPr>
            <a:xfrm>
              <a:off x="838080" y="3049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empus Sans ITC"/>
                </a:rPr>
                <a:t>Fact or Opinion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>
            <a:hlinkClick r:id="rId5" action="ppaction://hlinksldjump"/>
          </p:cNvPr>
          <p:cNvSpPr/>
          <p:nvPr/>
        </p:nvSpPr>
        <p:spPr>
          <a:xfrm>
            <a:off x="17524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447920" y="22860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ix billion people inhabit our plane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AutoShape 9">
            <a:hlinkClick r:id="rId6"/>
          </p:cNvPr>
          <p:cNvSpPr/>
          <p:nvPr/>
        </p:nvSpPr>
        <p:spPr>
          <a:xfrm>
            <a:off x="4952880" y="5334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3:52:15Z</dcterms:created>
  <dc:creator>Hazelwood School District</dc:creator>
  <dc:description/>
  <dc:language>en-US</dc:language>
  <cp:lastModifiedBy>teacher</cp:lastModifiedBy>
  <dcterms:modified xsi:type="dcterms:W3CDTF">2011-01-07T22:15:35Z</dcterms:modified>
  <cp:revision>59</cp:revision>
  <dc:subject/>
  <dc:title>No Slide Title</dc:title>
</cp:coreProperties>
</file>